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2675-C908-4CDD-87A4-B4C10A89B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2F3E-B071-486C-A656-6CC673F7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BCBD-3C38-4C43-AB8E-DA9C16A4C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EA51-9BF5-45C3-B9F7-C32E78EC6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DA72-5762-4CBD-AE05-5467E040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C0AA-C915-41A6-A230-FD0A053E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92B9-A0D7-477C-909C-91D0A6B6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B20D-74B3-437F-A255-56952FBE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9D56-2B17-4171-9487-312C1E12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7E36-A3F7-4E8B-AACC-4BEBD80A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88FB-1A2A-437D-A9AF-CD8AEB4E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2B64-DD7E-4278-A896-694FCB50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26A1-8191-4EA5-AC0C-9F0D5C4EE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idptv.state.id.us/dialogue4kids/images/season10/beoutside/clip_image018.gif&amp;imgrefurl=http://idptv.state.id.us/dialogue4kids/season10/outdoored/resources.cfm&amp;usg=__EfbKCxEYx0GxsXE0OgwQCgMfSDs=&amp;h=339&amp;w=362&amp;sz=14&amp;hl=en&amp;start=10&amp;zoom=1&amp;um=1&amp;itbs=1&amp;tbnid=wBdeP9VZR_QNhM:&amp;tbnh=113&amp;tbnw=121&amp;prev=/images%3Fq%3Dto%2Bread%26um%3D1%26hl%3Den%26sa%3DN%26rlz%3D1W1_____en%26tbs%3Disch:1&amp;ei=kVeITfjyDqHj0gGky_mMD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ur  5  words  1-1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00" y="46080"/>
            <a:ext cx="115236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אין    </a:t>
            </a:r>
            <a:r>
              <a:rPr b="0" lang="he-IL" sz="7200" spc="-1" strike="noStrike">
                <a:solidFill>
                  <a:srgbClr val="99cc00"/>
                </a:solidFill>
                <a:latin typeface="Arial"/>
              </a:rPr>
              <a:t>זמן</a:t>
            </a:r>
            <a:r>
              <a:rPr b="0" lang="he-IL" sz="72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IN  ZMAN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290520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ין   זמן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518148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וא  </a:t>
            </a:r>
            <a:r>
              <a:rPr b="1" lang="he-IL" sz="8000" spc="-1" strike="noStrike">
                <a:solidFill>
                  <a:srgbClr val="009999"/>
                </a:solidFill>
                <a:latin typeface="Arial"/>
              </a:rPr>
              <a:t>חושב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429000" y="2082960"/>
            <a:ext cx="464832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e-IL" sz="8000" spc="-1" strike="noStrike">
                <a:solidFill>
                  <a:srgbClr val="ff00ff"/>
                </a:solidFill>
                <a:latin typeface="Arial"/>
              </a:rPr>
              <a:t>ל</a:t>
            </a:r>
            <a:r>
              <a:rPr b="1" lang="he-IL" sz="8000" spc="-1" strike="noStrike">
                <a:solidFill>
                  <a:srgbClr val="009999"/>
                </a:solidFill>
                <a:latin typeface="Arial"/>
              </a:rPr>
              <a:t>חש</a:t>
            </a:r>
            <a:r>
              <a:rPr b="1" lang="he-IL" sz="8000" spc="-1" strike="noStrike">
                <a:solidFill>
                  <a:srgbClr val="ff00ff"/>
                </a:solidFill>
                <a:latin typeface="Arial"/>
              </a:rPr>
              <a:t>ו</a:t>
            </a:r>
            <a:r>
              <a:rPr b="1" lang="he-IL" sz="8000" spc="-1" strike="noStrike">
                <a:solidFill>
                  <a:srgbClr val="009999"/>
                </a:solidFill>
                <a:latin typeface="Arial"/>
              </a:rPr>
              <a:t>ב</a:t>
            </a:r>
            <a:r>
              <a:rPr b="1" lang="he-IL" sz="8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CHSHOV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00400" y="1828800"/>
            <a:ext cx="414324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429000" y="1447920"/>
            <a:ext cx="34005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יא  </a:t>
            </a:r>
            <a:r>
              <a:rPr b="0" lang="he-IL" sz="8000" spc="-1" strike="noStrike">
                <a:solidFill>
                  <a:srgbClr val="009999"/>
                </a:solidFill>
                <a:latin typeface="Arial"/>
              </a:rPr>
              <a:t>ח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ו</a:t>
            </a:r>
            <a:r>
              <a:rPr b="0" lang="he-IL" sz="8000" spc="-1" strike="noStrike">
                <a:solidFill>
                  <a:srgbClr val="009999"/>
                </a:solidFill>
                <a:latin typeface="Arial"/>
              </a:rPr>
              <a:t>שב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ת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327672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וא  </a:t>
            </a:r>
            <a:r>
              <a:rPr b="1" lang="he-IL" sz="8000" spc="-1" strike="noStrike">
                <a:solidFill>
                  <a:srgbClr val="009999"/>
                </a:solidFill>
                <a:latin typeface="Arial"/>
              </a:rPr>
              <a:t>א</a:t>
            </a: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ו</a:t>
            </a:r>
            <a:r>
              <a:rPr b="1" lang="he-IL" sz="8000" spc="-1" strike="noStrike">
                <a:solidFill>
                  <a:srgbClr val="009999"/>
                </a:solidFill>
                <a:latin typeface="Arial"/>
              </a:rPr>
              <a:t>הב</a:t>
            </a: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209680" y="1874880"/>
            <a:ext cx="5105520" cy="38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600" spc="-1" strike="noStrike">
                <a:solidFill>
                  <a:srgbClr val="000000"/>
                </a:solidFill>
                <a:latin typeface="Arial"/>
              </a:rPr>
              <a:t>ל</a:t>
            </a:r>
            <a:r>
              <a:rPr b="0" lang="he-IL" sz="9600" spc="-1" strike="noStrike">
                <a:solidFill>
                  <a:srgbClr val="009999"/>
                </a:solidFill>
                <a:latin typeface="Arial"/>
              </a:rPr>
              <a:t>אה</a:t>
            </a:r>
            <a:r>
              <a:rPr b="0" lang="he-IL" sz="9600" spc="-1" strike="noStrike">
                <a:solidFill>
                  <a:srgbClr val="000000"/>
                </a:solidFill>
                <a:latin typeface="Arial"/>
              </a:rPr>
              <a:t>ו</a:t>
            </a:r>
            <a:r>
              <a:rPr b="0" lang="he-IL" sz="9600" spc="-1" strike="noStrike">
                <a:solidFill>
                  <a:srgbClr val="009999"/>
                </a:solidFill>
                <a:latin typeface="Arial"/>
              </a:rPr>
              <a:t>ב</a:t>
            </a:r>
            <a:r>
              <a:rPr b="0" lang="he-IL" sz="9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666880" y="1886040"/>
            <a:ext cx="51055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 OUT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809880" y="2209680"/>
            <a:ext cx="4876920" cy="3522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×¤×¡×§ ×–×ž×Ÿ, ×§×•×•×™×Ÿ ×ž×’×™, ××¤×¨×•×¤×•"/>
          <p:cNvPicPr/>
          <p:nvPr/>
        </p:nvPicPr>
        <p:blipFill>
          <a:blip r:embed="rId2"/>
          <a:stretch/>
        </p:blipFill>
        <p:spPr>
          <a:xfrm>
            <a:off x="533520" y="1305000"/>
            <a:ext cx="380988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ל</a:t>
            </a:r>
            <a:r>
              <a:rPr b="1" lang="he-IL" sz="8800" spc="-1" strike="noStrike">
                <a:solidFill>
                  <a:srgbClr val="009999"/>
                </a:solidFill>
                <a:latin typeface="Arial"/>
              </a:rPr>
              <a:t>קר</a:t>
            </a: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ו</a:t>
            </a:r>
            <a:r>
              <a:rPr b="1" lang="he-IL" sz="8800" spc="-1" strike="noStrike">
                <a:solidFill>
                  <a:srgbClr val="009999"/>
                </a:solidFill>
                <a:latin typeface="Arial"/>
              </a:rPr>
              <a:t>א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343400" y="2666880"/>
            <a:ext cx="365760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KRO   </a:t>
            </a:r>
            <a:r>
              <a:rPr b="1" lang="he-IL" sz="7200" spc="-1" strike="noStrike">
                <a:solidFill>
                  <a:srgbClr val="000000"/>
                </a:solidFill>
                <a:latin typeface="Arial"/>
              </a:rPr>
              <a:t>ל</a:t>
            </a:r>
            <a:r>
              <a:rPr b="1" lang="he-IL" sz="7200" spc="-1" strike="noStrike">
                <a:solidFill>
                  <a:srgbClr val="009999"/>
                </a:solidFill>
                <a:latin typeface="Arial"/>
              </a:rPr>
              <a:t>קר</a:t>
            </a:r>
            <a:r>
              <a:rPr b="1" lang="he-IL" sz="7200" spc="-1" strike="noStrike">
                <a:solidFill>
                  <a:srgbClr val="000000"/>
                </a:solidFill>
                <a:latin typeface="Arial"/>
              </a:rPr>
              <a:t>ו</a:t>
            </a:r>
            <a:r>
              <a:rPr b="1" lang="he-IL" sz="7200" spc="-1" strike="noStrike">
                <a:solidFill>
                  <a:srgbClr val="009999"/>
                </a:solidFill>
                <a:latin typeface="Arial"/>
              </a:rPr>
              <a:t>א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505320" y="1968480"/>
            <a:ext cx="365760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__ __ __ __ __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ל</a:t>
            </a:r>
            <a:r>
              <a:rPr b="1" lang="he-IL" sz="8800" spc="-1" strike="noStrike">
                <a:solidFill>
                  <a:srgbClr val="009999"/>
                </a:solidFill>
                <a:latin typeface="Arial"/>
              </a:rPr>
              <a:t>אכ</a:t>
            </a: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ו</a:t>
            </a:r>
            <a:r>
              <a:rPr b="1" lang="he-IL" sz="8800" spc="-1" strike="noStrike">
                <a:solidFill>
                  <a:srgbClr val="009999"/>
                </a:solidFill>
                <a:latin typeface="Arial"/>
              </a:rPr>
              <a:t>ל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ל</a:t>
            </a:r>
            <a:r>
              <a:rPr b="1" lang="he-IL" sz="8800" spc="-1" strike="noStrike">
                <a:solidFill>
                  <a:srgbClr val="009999"/>
                </a:solidFill>
                <a:latin typeface="Arial"/>
              </a:rPr>
              <a:t>לב</a:t>
            </a: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ו</a:t>
            </a:r>
            <a:r>
              <a:rPr b="1" lang="he-IL" sz="8800" spc="-1" strike="noStrike">
                <a:solidFill>
                  <a:srgbClr val="009999"/>
                </a:solidFill>
                <a:latin typeface="Arial"/>
              </a:rPr>
              <a:t>ש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886200" y="1828800"/>
            <a:ext cx="436248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וא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 __ __ __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 __ __ __ __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009999"/>
                </a:solidFill>
                <a:latin typeface="Arial"/>
              </a:rPr>
              <a:t>ל</a:t>
            </a: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ו</a:t>
            </a:r>
            <a:r>
              <a:rPr b="1" lang="he-IL" sz="6600" spc="-1" strike="noStrike">
                <a:solidFill>
                  <a:srgbClr val="009999"/>
                </a:solidFill>
                <a:latin typeface="Arial"/>
              </a:rPr>
              <a:t>בש</a:t>
            </a: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7200" spc="-1" strike="noStrike">
                <a:solidFill>
                  <a:srgbClr val="99cc00"/>
                </a:solidFill>
                <a:latin typeface="Arial"/>
              </a:rPr>
              <a:t>בגדי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486400" y="1828800"/>
            <a:ext cx="320040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וא </a:t>
            </a:r>
            <a:r>
              <a:rPr b="1" lang="he-IL" sz="6000" spc="-1" strike="noStrike">
                <a:solidFill>
                  <a:srgbClr val="009999"/>
                </a:solidFill>
                <a:latin typeface="Arial"/>
              </a:rPr>
              <a:t>ל</a:t>
            </a:r>
            <a:r>
              <a:rPr b="1" lang="he-IL" sz="6000" spc="-1" strike="noStrike">
                <a:solidFill>
                  <a:srgbClr val="000000"/>
                </a:solidFill>
                <a:latin typeface="Arial"/>
              </a:rPr>
              <a:t>ו</a:t>
            </a:r>
            <a:r>
              <a:rPr b="1" lang="he-IL" sz="6000" spc="-1" strike="noStrike">
                <a:solidFill>
                  <a:srgbClr val="009999"/>
                </a:solidFill>
                <a:latin typeface="Arial"/>
              </a:rPr>
              <a:t>בש</a:t>
            </a:r>
            <a:r>
              <a:rPr b="1" lang="he-IL" sz="8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he-IL" sz="4400" spc="-1" strike="noStrike">
                <a:solidFill>
                  <a:srgbClr val="99cc00"/>
                </a:solidFill>
                <a:latin typeface="Arial"/>
              </a:rPr>
              <a:t>__ __ __</a:t>
            </a:r>
            <a:r>
              <a:rPr b="1" lang="he-IL" sz="8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he-IL" sz="4400" spc="-1" strike="noStrike">
                <a:solidFill>
                  <a:srgbClr val="99cc00"/>
                </a:solidFill>
                <a:latin typeface="Arial"/>
              </a:rPr>
              <a:t>__</a:t>
            </a:r>
            <a:r>
              <a:rPr b="1" lang="he-IL" sz="8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he-IL" sz="4400" spc="-1" strike="noStrike">
                <a:solidFill>
                  <a:srgbClr val="99cc00"/>
                </a:solidFill>
                <a:latin typeface="Arial"/>
              </a:rPr>
              <a:t>__</a:t>
            </a:r>
            <a:r>
              <a:rPr b="1" lang="he-IL" sz="8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he-IL" sz="4400" spc="-1" strike="noStrike">
                <a:solidFill>
                  <a:srgbClr val="99cc00"/>
                </a:solidFill>
                <a:latin typeface="Arial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99cc00"/>
                </a:solidFill>
                <a:latin typeface="Arial"/>
              </a:rPr>
              <a:t>בגדי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724280" y="1752480"/>
            <a:ext cx="320040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72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he-IL" sz="7200" spc="-1" strike="noStrike">
                <a:solidFill>
                  <a:srgbClr val="99cc00"/>
                </a:solidFill>
                <a:latin typeface="Arial"/>
              </a:rPr>
              <a:t>__ __ __ </a:t>
            </a:r>
            <a:r>
              <a:rPr b="1" lang="he-IL" sz="7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he-IL" sz="7200" spc="-1" strike="noStrike">
                <a:solidFill>
                  <a:srgbClr val="333399"/>
                </a:solidFill>
                <a:latin typeface="Arial"/>
              </a:rPr>
              <a:t>ים</a:t>
            </a:r>
            <a:r>
              <a:rPr b="1" lang="he-IL" sz="7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he-IL" sz="7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he-IL" sz="72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9600" spc="-1" strike="noStrike">
                <a:solidFill>
                  <a:srgbClr val="99cc00"/>
                </a:solidFill>
                <a:latin typeface="Arial"/>
              </a:rPr>
              <a:t>בגד</a:t>
            </a:r>
            <a:r>
              <a:rPr b="1" lang="he-IL" sz="6000" spc="-1" strike="noStrike">
                <a:solidFill>
                  <a:srgbClr val="99cc00"/>
                </a:solidFill>
                <a:latin typeface="Arial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971800" y="3048120"/>
            <a:ext cx="52387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=  __ __ __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9600" spc="-1" strike="noStrike">
                <a:solidFill>
                  <a:srgbClr val="99cc00"/>
                </a:solidFill>
                <a:latin typeface="Arial"/>
              </a:rPr>
              <a:t>זמ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305748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   __ __ __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אין    </a:t>
            </a:r>
            <a:r>
              <a:rPr b="0" lang="he-IL" sz="6000" spc="-1" strike="noStrike">
                <a:solidFill>
                  <a:srgbClr val="99cc00"/>
                </a:solidFill>
                <a:latin typeface="Arial"/>
              </a:rPr>
              <a:t>זמ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290520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וא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e-IL" sz="4000" spc="-1" strike="noStrike">
                <a:solidFill>
                  <a:srgbClr val="009999"/>
                </a:solidFill>
                <a:latin typeface="Arial"/>
              </a:rPr>
              <a:t>__ __ __ __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9600" spc="-1" strike="noStrike">
                <a:solidFill>
                  <a:srgbClr val="009999"/>
                </a:solidFill>
                <a:latin typeface="Arial"/>
              </a:rPr>
              <a:t>חוש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495680" y="2057400"/>
            <a:ext cx="464832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 __ __ __ __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THINK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9600" spc="-1" strike="noStrike">
                <a:solidFill>
                  <a:srgbClr val="ff00ff"/>
                </a:solidFill>
                <a:latin typeface="Arial"/>
              </a:rPr>
              <a:t>ל</a:t>
            </a:r>
            <a:r>
              <a:rPr b="1" lang="he-IL" sz="9600" spc="-1" strike="noStrike">
                <a:solidFill>
                  <a:srgbClr val="009999"/>
                </a:solidFill>
                <a:latin typeface="Arial"/>
              </a:rPr>
              <a:t>חש</a:t>
            </a:r>
            <a:r>
              <a:rPr b="1" lang="he-IL" sz="9600" spc="-1" strike="noStrike">
                <a:solidFill>
                  <a:srgbClr val="ff00ff"/>
                </a:solidFill>
                <a:latin typeface="Arial"/>
              </a:rPr>
              <a:t>ו</a:t>
            </a:r>
            <a:r>
              <a:rPr b="1" lang="he-IL" sz="9600" spc="-1" strike="noStrike">
                <a:solidFill>
                  <a:srgbClr val="009999"/>
                </a:solidFill>
                <a:latin typeface="Arial"/>
              </a:rPr>
              <a:t>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41436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וא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009999"/>
                </a:solidFill>
                <a:latin typeface="Arial"/>
              </a:rPr>
              <a:t>א</a:t>
            </a: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ו</a:t>
            </a:r>
            <a:r>
              <a:rPr b="1" lang="he-IL" sz="6600" spc="-1" strike="noStrike">
                <a:solidFill>
                  <a:srgbClr val="009999"/>
                </a:solidFill>
                <a:latin typeface="Arial"/>
              </a:rPr>
              <a:t>ה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124080" y="2362320"/>
            <a:ext cx="5105520" cy="38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ל</a:t>
            </a:r>
            <a:r>
              <a:rPr b="1" lang="he-IL" sz="8800" spc="-1" strike="noStrike">
                <a:solidFill>
                  <a:srgbClr val="009999"/>
                </a:solidFill>
                <a:latin typeface="Arial"/>
              </a:rPr>
              <a:t>אכ</a:t>
            </a: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ו</a:t>
            </a:r>
            <a:r>
              <a:rPr b="1" lang="he-IL" sz="8800" spc="-1" strike="noStrike">
                <a:solidFill>
                  <a:srgbClr val="009999"/>
                </a:solidFill>
                <a:latin typeface="Arial"/>
              </a:rPr>
              <a:t>ל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29000" y="205740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OVE</a:t>
            </a:r>
            <a:r>
              <a:rPr b="0" lang="he-IL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ל</a:t>
            </a:r>
            <a:r>
              <a:rPr b="0" lang="he-IL" sz="7200" spc="-1" strike="noStrike">
                <a:solidFill>
                  <a:srgbClr val="009999"/>
                </a:solidFill>
                <a:latin typeface="Arial"/>
              </a:rPr>
              <a:t>אה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ו</a:t>
            </a:r>
            <a:r>
              <a:rPr b="0" lang="he-IL" sz="7200" spc="-1" strike="noStrike">
                <a:solidFill>
                  <a:srgbClr val="009999"/>
                </a:solidFill>
                <a:latin typeface="Arial"/>
              </a:rPr>
              <a:t>ב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657600" y="2286000"/>
            <a:ext cx="51055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  ZE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?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809880" y="2209680"/>
            <a:ext cx="4876920" cy="3522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×¤×¡×§ ×–×ž×Ÿ, ×§×•×•×™×Ÿ ×ž×’×™, ××¤×¨×•×¤×•"/>
          <p:cNvPicPr/>
          <p:nvPr/>
        </p:nvPicPr>
        <p:blipFill>
          <a:blip r:embed="rId2"/>
          <a:stretch/>
        </p:blipFill>
        <p:spPr>
          <a:xfrm>
            <a:off x="533520" y="1305000"/>
            <a:ext cx="380988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ה  </a:t>
            </a: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ל</a:t>
            </a:r>
            <a:r>
              <a:rPr b="1" lang="he-IL" sz="8000" spc="-1" strike="noStrike">
                <a:solidFill>
                  <a:srgbClr val="009999"/>
                </a:solidFill>
                <a:latin typeface="Arial"/>
              </a:rPr>
              <a:t>לב</a:t>
            </a: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ו</a:t>
            </a:r>
            <a:r>
              <a:rPr b="1" lang="he-IL" sz="8000" spc="-1" strike="noStrike">
                <a:solidFill>
                  <a:srgbClr val="009999"/>
                </a:solidFill>
                <a:latin typeface="Arial"/>
              </a:rPr>
              <a:t>ש</a:t>
            </a: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LBOSH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8120" y="2133720"/>
            <a:ext cx="436248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מה  לא  </a:t>
            </a: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ל</a:t>
            </a:r>
            <a:r>
              <a:rPr b="1" lang="he-IL" sz="8000" spc="-1" strike="noStrike">
                <a:solidFill>
                  <a:srgbClr val="009999"/>
                </a:solidFill>
                <a:latin typeface="Arial"/>
              </a:rPr>
              <a:t>לב</a:t>
            </a: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ו</a:t>
            </a:r>
            <a:r>
              <a:rPr b="1" lang="he-IL" sz="8000" spc="-1" strike="noStrike">
                <a:solidFill>
                  <a:srgbClr val="009999"/>
                </a:solidFill>
                <a:latin typeface="Arial"/>
              </a:rPr>
              <a:t>ש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733920" y="1905120"/>
            <a:ext cx="333036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וא </a:t>
            </a:r>
            <a:r>
              <a:rPr b="1" lang="he-IL" sz="8000" spc="-1" strike="noStrike">
                <a:solidFill>
                  <a:srgbClr val="009999"/>
                </a:solidFill>
                <a:latin typeface="Arial"/>
              </a:rPr>
              <a:t>ל</a:t>
            </a: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ו</a:t>
            </a:r>
            <a:r>
              <a:rPr b="1" lang="he-IL" sz="8000" spc="-1" strike="noStrike">
                <a:solidFill>
                  <a:srgbClr val="009999"/>
                </a:solidFill>
                <a:latin typeface="Arial"/>
              </a:rPr>
              <a:t>בש</a:t>
            </a: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8800" spc="-1" strike="noStrike">
                <a:solidFill>
                  <a:srgbClr val="99cc00"/>
                </a:solidFill>
                <a:latin typeface="Arial"/>
              </a:rPr>
              <a:t>בגדים</a:t>
            </a:r>
            <a:r>
              <a:rPr b="0" lang="he-IL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724280" y="1752480"/>
            <a:ext cx="320040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72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he-IL" sz="7200" spc="-1" strike="noStrike">
                <a:solidFill>
                  <a:srgbClr val="99cc00"/>
                </a:solidFill>
                <a:latin typeface="Arial"/>
              </a:rPr>
              <a:t>בגד</a:t>
            </a:r>
            <a:r>
              <a:rPr b="1" lang="he-IL" sz="7200" spc="-1" strike="noStrike">
                <a:solidFill>
                  <a:srgbClr val="333399"/>
                </a:solidFill>
                <a:latin typeface="Arial"/>
              </a:rPr>
              <a:t>(ים )</a:t>
            </a:r>
            <a:r>
              <a:rPr b="1" lang="he-IL" sz="72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en-US" sz="7200" spc="-1" strike="noStrike">
                <a:solidFill>
                  <a:srgbClr val="99cc00"/>
                </a:solidFill>
                <a:latin typeface="Arial"/>
              </a:rPr>
              <a:t>BEGED</a:t>
            </a:r>
            <a:r>
              <a:rPr b="1" lang="he-IL" sz="72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בגד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ULAR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בגדים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URAL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971800" y="3048120"/>
            <a:ext cx="52387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8800" spc="-1" strike="noStrike">
                <a:solidFill>
                  <a:srgbClr val="99cc00"/>
                </a:solidFill>
                <a:latin typeface="Arial"/>
              </a:rPr>
              <a:t>BGADIM</a:t>
            </a:r>
            <a:r>
              <a:rPr b="1" lang="he-IL" sz="8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he-IL" sz="8800" spc="-1" strike="noStrike">
                <a:solidFill>
                  <a:srgbClr val="99cc00"/>
                </a:solidFill>
                <a:latin typeface="Arial"/>
              </a:rPr>
              <a:t>בגד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666756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he-IL" sz="6600" spc="-1" strike="noStrike">
                <a:solidFill>
                  <a:srgbClr val="99cc00"/>
                </a:solidFill>
                <a:latin typeface="Arial"/>
              </a:rPr>
              <a:t>זמן</a:t>
            </a:r>
            <a:r>
              <a:rPr b="1" lang="he-IL" sz="66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MAN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פסק   זמן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305748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08:03:40Z</dcterms:created>
  <dc:creator>Preferred Customer</dc:creator>
  <dc:description/>
  <dc:language>en-US</dc:language>
  <cp:lastModifiedBy>aschlezinger</cp:lastModifiedBy>
  <dcterms:modified xsi:type="dcterms:W3CDTF">2011-03-22T20:36:35Z</dcterms:modified>
  <cp:revision>4</cp:revision>
  <dc:subject/>
  <dc:title>Shiur  5  words  1-11 </dc:title>
</cp:coreProperties>
</file>